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561-7A27-4F4A-B5DC-C00B863B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330-0081-4419-AB0A-B6DC4B43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1E6-C8B9-4A3D-917B-18E8C220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111-BF11-4408-BF73-60600A49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A8C2-63D9-430D-A2CB-69DA6FA7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4F0E-47FB-47EE-8368-2E659681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CB71-DB96-40EA-987E-94FE6DA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41C5-1C41-40EC-AD89-CB01E157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EDB4-C0B9-4D93-96EC-2D121235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2594-07DE-4C6C-9C8D-814E42DF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5029-F12D-4E50-BEBE-CCBEDA6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18D-F59A-4B11-B8E3-18D5903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1B96-56A0-46A5-B08F-E3233D0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406-B9FC-4C86-A741-62A2017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2FE0-F886-45EE-81F7-E3B0122A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657C-96BF-479D-8AA3-3A766FE2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CA68-3A8D-4595-A6DA-C246B26C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14DB-D12B-40D6-8B1A-35D7F059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BD87-CFFD-4547-8D2B-15576176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9103-A7E7-4AE7-B124-A14C71E3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A4E7-7565-4969-8C25-BE263487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0546-31A5-4631-B9D2-DC037AEF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38B-98E2-4897-9C9D-ED2BC0B7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FD3F-3B66-48D2-87F9-8561AC3E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567C-E8F9-4E24-B315-79B95E2D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8128-39AD-4F2C-8A62-9986BB2E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B7EB-8C91-4A2E-AAFC-B501FF1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CB62-5E7B-4036-886E-9521F43C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D6BB-D508-420D-B78C-B113A48F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B512-D467-4970-B361-3AEAFF00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EE45-5EE8-4BBC-8115-CC00335F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92BB-ADD7-404D-BD77-23CE5BA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EE44-8704-4AB9-B201-468226C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885-D1EA-4174-876E-349E6EF0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20B8B-B40C-44D6-9D8C-4EB5FE9C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E269-9DF3-4D2D-9579-B6BCC851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895C-2D77-4D14-B35D-E98B80E1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5751-0C7D-4134-8164-2864DDE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9EB46-44D7-465A-9D21-464C7A94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BCFDA-9D5B-4B31-90A4-B3CC614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D352-C6D7-481D-90A1-E928FB90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2C61-34AE-4008-89FB-1EA3ADAE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A0935-4E0E-4B77-9003-5E9F4795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653-F1B4-44FE-BCCC-D9E6913D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170-4F2D-4D71-8B39-CD1EC59F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D6E-67F8-4A20-A850-F6B121F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2B6-68AB-4751-A6F2-87485609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CD1-E315-46BC-B52D-9612A3C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8E2B-B748-448A-A00A-507DCC497C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6C42-6499-44E0-9F2F-9BD79962270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5DE6-22B8-4428-852B-0E9468C8F8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BB7A-1C78-4FA1-AC6B-20BF20DC620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ceann@chalker.org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Ann Chalk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ceann@chalker.or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esting cont’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udents may adjust the tower until they begin loading the san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ams are given 10 minutes to load the sand into the bucke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esting cont’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and loading stops –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failure of the tower occu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maximum load is supported (15 kg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the chain comes in contact with the tow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any part of the tower extends below the top surface of the Test B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esting cont’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ad Supported includes –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ading bloc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yebol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ash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ing nu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ucke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an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Scoring Formu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core= Load Supported (grams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/Mass of Tower(grams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ighest Score wi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ie Break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9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ies will be broken in favor of the lighter structu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i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1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Constantia"/>
              </a:rPr>
              <a:t>s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 Ti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wer meets all Construction Paramet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2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Constantia"/>
              </a:rPr>
              <a:t>n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 Ti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wer does not meet one or more Construction Paramet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iers cont’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3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Constantia"/>
              </a:rPr>
              <a:t>r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 Ti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ructure can not be tested for any reason will be ranked by the lowest ma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Disclaimer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is presentation was prepared using </a:t>
            </a: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draft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rules.  There may be some changes in the final copy of the rules.  The rules which will be in your Coaches Manual and Student Manuals will be the official rul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Tower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2246040"/>
            <a:ext cx="777240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tudents will design and build the lightest structure holding the greatest amount of weight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R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Only 1 structure entered per tea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 Impoun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sting maximum load 15 k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udents must wear goggl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wers must be marked by team so judges can identify the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wer is a single structure (no separate or detachable pieces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Constr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owers must be made of only wood and bonding glue (any type of glue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o particle board, plywood, beaverboard, or other composite wood are allowed (this includes bamboo and paper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Unlimited lamination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nstantia"/>
              </a:rPr>
              <a:t>by students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is allowe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o limit on the cross section size of individual pieces of woo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ust accommodate a loading block that is 5.0cm x 5.0cm x 2.0cm w/a ¼ inch diameter hole in the cent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ight – All parts of the loading block must be a minimum 50.0 cm above the platform (no max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base of the Tower must span the testing platform which has a 20.0 cm x 20.0 cm square opening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o portion of the Tower may extend below the top surface of the testing platfor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Tower may not be braced against the edge of the Test B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fter set up, the Tower may only contact the Loading Block and the Test B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Division B Paramet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ortion of the tower more than 30.0 cm above the test base must pass through an 8.0 cm diameter hole or op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Division C Paramet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ortion of the tower more than15 cm above the test base must pass through an 8.0 cm diameter hole or ope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wers Tes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chain and bucket will be suspended from the loading bloc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ructures will be tested by loading sand into the bucket up to 15 k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udents will be the only ones to handle their structur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1:35:14Z</dcterms:created>
  <dc:creator>D19XP</dc:creator>
  <dc:description/>
  <dc:language>en-US</dc:language>
  <cp:lastModifiedBy>Mark A. Van Hecke</cp:lastModifiedBy>
  <dcterms:modified xsi:type="dcterms:W3CDTF">2010-07-07T21:44:48Z</dcterms:modified>
  <cp:revision>37</cp:revision>
  <dc:subject/>
  <dc:title>SCIENCE OLYMPIA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